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ACE-0524-4208-B166-A3F20E66C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 picture of all the different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6B8-2947-474F-8134-90D24627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17E-70FA-4E3E-814B-BE0709B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E11-7AA4-4ABA-8DF0-2AF0C42A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5DE-DA06-46AB-9650-22D8CC76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51F-8D60-4128-AE94-40CC3242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7BF5-DD12-445C-85C9-3E4D092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E9DC-28F5-4018-8DF3-5A88842A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1ADF-455F-4A5F-B7C0-DB96B7F4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59FD-D882-42CB-B641-47732619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A47-D479-4EBA-8922-7FBF2FC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9B3B-D585-4009-9319-D0F51E1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49D-B7FB-47B1-9017-59CC59D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52D-8D35-4580-A027-DA84CA9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7E07-7230-4717-8AEC-45C75D9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F5C-6D3B-4BE3-A120-10B773A2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78BC-CD03-4A46-96CE-B9B5A7B6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49A8-4464-4A1E-98AD-2ABD5462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351E-D5CD-4261-A280-9A74517C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0BDF-6927-4428-9ABE-9CC1191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92927-F4A0-4A01-ADD1-2A35FE1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D72F-04F0-4BBC-AAD9-D537D45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7F09-29B5-484E-A1D7-189EE14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3CB-2B43-4F5C-BD27-5E1BB9E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62F1-B638-4C47-A558-405F3CF8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B0DE-211A-4987-9ABC-39952E6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56D8-0402-4CE9-B387-51DD9EE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7A7F-DCF6-420E-BB11-3262015C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AF37-031C-4CE7-AC9C-7AA01694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A8DD-7F2C-4994-83A1-9FC083E4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467F-63F4-4B35-97A5-7F04FC4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E731-3C5F-4DC2-92CB-2EFBB83F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0D8C-5FBB-41EE-96F0-8970BE5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37FE-F0E7-4A17-A99E-CCA4EFC4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8B0-761C-4AE9-9DC1-06CB72CF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6B89-765B-469E-83DA-9E94FC2B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6BCC-675E-4C64-A056-17AEA19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C3CE-D6F9-483B-8AE8-6548865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21AA-2036-4038-94BA-809D57F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F05C-A804-4F27-9B9F-629F24B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C154-CB13-4DE8-A2F0-30BAAF9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09A9-B7FB-42CB-9A4E-DD2F5689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D255-17B0-4B72-A684-0D9F69EE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2B6A-8B38-4C16-B8A9-7C7BB4E1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22EDF-80E1-4635-80F5-20DE916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6B4-9AC3-4421-AB1B-705B8AB3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AEE8-AC6B-45F2-BE04-DC9663E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982D-BA1F-42E1-937A-98A5A315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F9A2-1C4E-437A-88E3-417A02B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4593-4915-4125-BDC3-C79DC7DF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F031B-5C72-4BB4-8FCA-5D2B010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C679-A20D-4A55-A4F8-2FAB754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6F6A-4732-40B6-AF4F-5D05CC0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BC9F-7213-49F2-B2F6-E3C9D30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63D03-6E33-4981-A785-0BA7838C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CB0A3-04C9-47F0-ADD2-BC8C15E0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742-EB4A-420F-A215-6D771416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8F2D-9CF0-467C-AA82-211605DF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FD72-506B-4963-BDE6-BC23DE8B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446A-B6F0-450C-A48F-C7B8FE1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DCEEB-B15B-4510-AC39-C6CB52DC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02606-8AF2-4EF3-AA40-E56298D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4DD0-9FA7-43F1-9586-9A428C04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15271-14F3-420F-B997-6706E05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CFBF-69CB-4006-9BFE-CC4C7CB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060E1-81A4-46CF-90AA-8D71D2D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3F59C-7113-4A21-918C-6588853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EAF-1A89-4594-AB69-239DE58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DC38-50B7-4E43-9FDF-33018CC0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7A4B8-80DE-4766-9633-7DFEFF76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844F-8D4B-455C-9734-598D37B1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56F-17EB-4590-B3D1-33DACFB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BFB-9725-4A3D-B50A-74B0C30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49F-E472-483C-8D3E-56F9D1BE305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A3BB-0353-4597-9037-FD08D5EAEEA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EA17-F91C-4E18-A34D-2CA2DB641F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7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24F7-1ECB-47CB-B76E-632C8F557D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5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7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70C-B5D5-4244-936C-2469CA2B1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FD1-46F5-459B-B160-5AC05FF19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pow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y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120400" cy="1411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y powe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500720" cy="429264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716360" cy="37116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rcRect l="-680" t="-1001" r="-680" b="-1001"/>
          <a:stretch/>
        </p:blipFill>
        <p:spPr>
          <a:xfrm>
            <a:off x="4572000" y="0"/>
            <a:ext cx="4572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clea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clear energ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343400" y="3238560"/>
            <a:ext cx="4800600" cy="36194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3075120"/>
            <a:ext cx="4284720" cy="3562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5940360" y="147600"/>
            <a:ext cx="3203640" cy="3090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lar pow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lar pow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4829040" y="3057480"/>
            <a:ext cx="4314960" cy="38005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47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dal pow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cture of wav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448240" y="2997360"/>
            <a:ext cx="3695760" cy="38606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0" y="3527280"/>
            <a:ext cx="5364000" cy="3330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39956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dro power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638520" y="3933720"/>
            <a:ext cx="5505480" cy="28101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959280" cy="42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40:06Z</dcterms:created>
  <dc:creator>HWDSB</dc:creator>
  <dc:description/>
  <dc:language>en-US</dc:language>
  <cp:lastModifiedBy>HWDSB</cp:lastModifiedBy>
  <dcterms:modified xsi:type="dcterms:W3CDTF">2011-01-18T15:27:10Z</dcterms:modified>
  <cp:revision>3</cp:revision>
  <dc:subject/>
  <dc:title>Energy sources</dc:title>
</cp:coreProperties>
</file>